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2.jpeg" ContentType="image/jpeg"/>
  <Override PartName="/ppt/media/image5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png" ContentType="image/png"/>
  <Override PartName="/ppt/media/image1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54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72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6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54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72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523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54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7240" y="227628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36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54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7240" y="4287240"/>
            <a:ext cx="27442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523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1160" y="428724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1160" y="2276280"/>
            <a:ext cx="415908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3640" y="4287240"/>
            <a:ext cx="85230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3600" cy="147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380280"/>
            <a:ext cx="91836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242280" cy="6910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64087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5229000"/>
            <a:ext cx="74880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omewhere Secondary Colle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94920" y="59817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IM Data 2005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79280" y="1557360"/>
          <a:ext cx="8713800" cy="47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7138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042920" y="2781360"/>
            <a:ext cx="1008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il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Gang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4076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551664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Kaipuke, Keogh,             Kovacevic, Lamb Aus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85080" y="2492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alk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484280"/>
          <a:ext cx="87138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7138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700360" y="414972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364500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r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234936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ilman, Wlkley, Hard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5589720"/>
            <a:ext cx="49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llis,            Stephens, Gia,  Smith,  Tranh,  Wang, Ar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1628640"/>
            <a:ext cx="1655640" cy="353160"/>
          </a:xfrm>
          <a:prstGeom prst="rect">
            <a:avLst/>
          </a:prstGeom>
          <a:solidFill>
            <a:srgbClr val="92c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1700" spc="-1" strike="noStrike">
                <a:solidFill>
                  <a:srgbClr val="000000"/>
                </a:solidFill>
                <a:latin typeface="Arial Rounded MT Bold"/>
              </a:rPr>
              <a:t>2005 - 20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95280" y="1557360"/>
          <a:ext cx="8497800" cy="48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49780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557360"/>
          <a:ext cx="87138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87138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258920" y="1773360"/>
            <a:ext cx="5257800" cy="459720"/>
          </a:xfrm>
          <a:prstGeom prst="rect">
            <a:avLst/>
          </a:prstGeom>
          <a:solidFill>
            <a:srgbClr val="8ed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tched Cohort by Qua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 What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438280"/>
            <a:ext cx="40384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improve your data, you need to know what the data i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the data and see if it tells you anything you did not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it does, use it to improve teaching and learning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495680" y="2847960"/>
            <a:ext cx="4648320" cy="42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0492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23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mproving Data Is a World Wide Prior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521080" cy="2173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03640" y="2276640"/>
            <a:ext cx="5184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8ed8f8"/>
                </a:solidFill>
                <a:latin typeface="Arial"/>
              </a:rPr>
              <a:t>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213000"/>
            <a:ext cx="6048360" cy="703440"/>
          </a:xfrm>
          <a:prstGeom prst="rect">
            <a:avLst/>
          </a:prstGeom>
          <a:solidFill>
            <a:srgbClr val="4c1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Lucida Handwriting"/>
              </a:rPr>
              <a:t>No child left beh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0" r="0" b="6607"/>
          <a:stretch/>
        </p:blipFill>
        <p:spPr>
          <a:xfrm>
            <a:off x="3851280" y="3933720"/>
            <a:ext cx="514836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4437000"/>
            <a:ext cx="3600360" cy="520560"/>
          </a:xfrm>
          <a:prstGeom prst="rect">
            <a:avLst/>
          </a:prstGeom>
          <a:solidFill>
            <a:srgbClr val="4c1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157720"/>
            <a:ext cx="34560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Lucida Handwriting"/>
              </a:rPr>
              <a:t>Every child ma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 Carefu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133720"/>
            <a:ext cx="331128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14800" y="2286000"/>
            <a:ext cx="50292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d81af"/>
                </a:solidFill>
                <a:latin typeface="Tahoma"/>
                <a:ea typeface="Times New Roman"/>
              </a:rPr>
              <a:t>When we look at data, we must consider ‘what is important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can be counted may not cou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counts possibly cannot be cou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1" i="1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17513" t="29320" r="8660" b="17512"/>
          <a:stretch/>
        </p:blipFill>
        <p:spPr>
          <a:xfrm>
            <a:off x="0" y="1484280"/>
            <a:ext cx="91440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7513" t="17512" r="8660" b="27366"/>
          <a:stretch/>
        </p:blipFill>
        <p:spPr>
          <a:xfrm>
            <a:off x="0" y="1341360"/>
            <a:ext cx="9144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23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Look at the six AIM Maths she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       </a:t>
            </a: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from the 2007 SL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What can you gather from the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What extra data would you lik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        </a:t>
            </a:r>
            <a:r>
              <a:rPr b="1" lang="en-AU" sz="3200" spc="-1" strike="noStrike">
                <a:solidFill>
                  <a:srgbClr val="4c1dd1"/>
                </a:solidFill>
                <a:latin typeface="Arial"/>
              </a:rPr>
              <a:t>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The AIM Data Matched Cohort -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2205000"/>
          <a:ext cx="8280360" cy="3073320"/>
        </p:xfrm>
        <a:graphic>
          <a:graphicData uri="http://schemas.openxmlformats.org/drawingml/2006/table">
            <a:tbl>
              <a:tblPr/>
              <a:tblGrid>
                <a:gridCol w="1655640"/>
                <a:gridCol w="1104840"/>
                <a:gridCol w="1103400"/>
                <a:gridCol w="1104840"/>
                <a:gridCol w="1103400"/>
                <a:gridCol w="1104840"/>
                <a:gridCol w="11034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a6e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where Secondary Coll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7 – ‘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9 – ‘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7 – ‘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 9 – ‘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43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589720"/>
            <a:ext cx="85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Student Number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Year 7 (2005) – 192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       Year 9 (2007) – 172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23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AIM Data Summary – Matched Co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276640"/>
          <a:ext cx="8559720" cy="3509640"/>
        </p:xfrm>
        <a:graphic>
          <a:graphicData uri="http://schemas.openxmlformats.org/drawingml/2006/table">
            <a:tbl>
              <a:tblPr/>
              <a:tblGrid>
                <a:gridCol w="1582560"/>
                <a:gridCol w="1395360"/>
                <a:gridCol w="1395360"/>
                <a:gridCol w="1395720"/>
                <a:gridCol w="1395360"/>
                <a:gridCol w="1395360"/>
              </a:tblGrid>
              <a:tr h="48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a6e6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M Increase 2005 – 200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ched Co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 – Bo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 – Gir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c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e9c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483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357720"/>
            <a:ext cx="1368720" cy="24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3357720"/>
            <a:ext cx="1368360" cy="2447640"/>
          </a:xfrm>
          <a:prstGeom prst="rect">
            <a:avLst/>
          </a:prstGeom>
          <a:solidFill>
            <a:srgbClr val="37af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3357720"/>
            <a:ext cx="1440000" cy="2447640"/>
          </a:xfrm>
          <a:prstGeom prst="rect">
            <a:avLst/>
          </a:prstGeom>
          <a:solidFill>
            <a:srgbClr val="d4b2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24720" y="3357720"/>
            <a:ext cx="1368360" cy="2447640"/>
          </a:xfrm>
          <a:prstGeom prst="rect">
            <a:avLst/>
          </a:prstGeom>
          <a:solidFill>
            <a:srgbClr val="4c1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357720"/>
            <a:ext cx="1439640" cy="2447640"/>
          </a:xfrm>
          <a:prstGeom prst="rect">
            <a:avLst/>
          </a:prstGeom>
          <a:solidFill>
            <a:srgbClr val="cd33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427640" y="1628640"/>
          <a:ext cx="450360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628640"/>
                    <a:ext cx="45036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372360" y="249228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ilman, Walkley, Hard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41497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Gian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3573360"/>
            <a:ext cx="10810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pp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Ko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628640"/>
          <a:ext cx="4319640" cy="453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628640"/>
                    <a:ext cx="43196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203640" y="2708280"/>
            <a:ext cx="216000" cy="158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596360" y="2421000"/>
            <a:ext cx="0" cy="2952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03640" y="2492280"/>
            <a:ext cx="0" cy="2952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076720" y="3284640"/>
            <a:ext cx="3598920" cy="14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55640" y="3499920"/>
            <a:ext cx="3456000" cy="18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076720" y="2492280"/>
            <a:ext cx="3598920" cy="244800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84360" y="2852640"/>
            <a:ext cx="3527280" cy="223200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3789360"/>
            <a:ext cx="865080" cy="19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Ga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r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Dy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D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ol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al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Nguy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7640" y="3357720"/>
            <a:ext cx="217440" cy="358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3645000"/>
            <a:ext cx="7920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r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492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alk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0:38:09Z</dcterms:created>
  <dc:creator>administrator</dc:creator>
  <dc:description/>
  <dc:language>en-US</dc:language>
  <cp:lastModifiedBy>Bob Stephens</cp:lastModifiedBy>
  <dcterms:modified xsi:type="dcterms:W3CDTF">2008-01-27T23:21:13Z</dcterms:modified>
  <cp:revision>36</cp:revision>
  <dc:subject/>
  <dc:title>Slide 1</dc:title>
</cp:coreProperties>
</file>